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D847-BDC6-4735-84B5-D931ED3AB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8E36-D82C-4A08-B10C-7AB996EB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00CA-159B-45CA-BF2B-4449FEBD2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9147-4B12-4F59-AB21-B83E62546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CBCF-A60E-420E-8B01-13F7B8AA2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C54B-5351-4B6A-BB93-9A3D7019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F3D2B-B17A-4B6E-8A2A-6B5DD36A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19D6-9503-4197-9575-0D7CC5F5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5C6C-2FC1-4463-9EA9-FACF892D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7F4D-D98B-417E-8534-E68432C3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9086-0707-4544-95CA-D863F40D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E34B-37F8-4771-97D2-EB147CB7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EEC4-E44F-40B5-A0AB-1CEA67BF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5239-4902-4CB4-8B75-1FACF9F9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4835-21E7-40DA-AC75-1031AFBF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D5D39-3FD5-4538-9862-FA973372E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64C9-3A0E-480D-AEEF-8BDC40F6E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1D6D-9877-44BE-A63C-D7FD16B3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7C0B-56F1-4959-B204-E57D432D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62C4-5D3F-490C-AB45-EFA6C936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367D-A8A7-44D7-A649-F750C375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30FA-064F-4EF5-83D0-2F2022AE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721C-399D-40C3-8A7C-90E5F990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8B6E-1340-4DCC-8228-96F59F4E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B843-60F1-430F-BDEA-A072F39F9CC9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632F-4DBD-4F85-BB51-C0E855BC3957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hyperlink" Target="file:///&#34507;&#30333;&#36136;.swf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Arial"/>
                <a:ea typeface="楷体_GB2312"/>
              </a:rPr>
              <a:t>蛋白质的测定—微量凯氏定氮法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8530920" y="4173480"/>
            <a:ext cx="4284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068720" y="443700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安徽师范大学生科院生化教研室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26028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生物化学实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五、操作步骤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一）凯氏定氮仪的构造和安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003366"/>
              </a:buClr>
              <a:buSzPct val="75000"/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凯氏定氮仪由蒸汽发生器、反应管及冷凝器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3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部分组成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003366"/>
              </a:buClr>
              <a:buSzPct val="75000"/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安装仪器时，</a:t>
            </a: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先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将冷凝器垂直地固定在铁架台上，冷凝器下端不要距离实验台太近，以免放不下吸收瓶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003366"/>
              </a:buClr>
              <a:buSzPct val="75000"/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然后将反应管通过磨口连接与冷凝器相连，根据仪器本身的角度将反应管固定在另一铁架台上。</a:t>
            </a: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一点务须注意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，否则容易引起氨的散失及反应室上端弯管折断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003366"/>
              </a:buClr>
              <a:buSzPct val="75000"/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然后将蒸汽发生器放在电炉上，并用橡皮管把蒸汽发生器与反应管连接起来。安装完毕后，不得轻易移动，以免仪器损坏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003366"/>
              </a:buClr>
              <a:buSzPct val="75000"/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按图装好凯氏定氮装置。向蒸汽发生器中的水中加数滴甲基红指示剂、几滴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H</a:t>
            </a:r>
            <a:r>
              <a:rPr b="0" lang="zh-CN" sz="2000" spc="-1" strike="noStrike" baseline="-30000">
                <a:solidFill>
                  <a:srgbClr val="003366"/>
                </a:solidFill>
                <a:latin typeface="楷体_GB2312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SO</a:t>
            </a:r>
            <a:r>
              <a:rPr b="0" lang="zh-CN" sz="2000" spc="-1" strike="noStrike" baseline="-30000">
                <a:solidFill>
                  <a:srgbClr val="003366"/>
                </a:solidFill>
                <a:latin typeface="楷体_GB2312"/>
                <a:ea typeface="楷体_GB2312"/>
              </a:rPr>
              <a:t>4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及数粒沸石在整个蒸馏过程中需保持此液为橙红色，否则补加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H</a:t>
            </a:r>
            <a:r>
              <a:rPr b="0" lang="zh-CN" sz="2000" spc="-1" strike="noStrike" baseline="-30000">
                <a:solidFill>
                  <a:srgbClr val="003366"/>
                </a:solidFill>
                <a:latin typeface="楷体_GB2312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SO</a:t>
            </a:r>
            <a:r>
              <a:rPr b="0" lang="zh-CN" sz="2000" spc="-1" strike="noStrike" baseline="-30000">
                <a:solidFill>
                  <a:srgbClr val="003366"/>
                </a:solidFill>
                <a:latin typeface="楷体_GB2312"/>
                <a:ea typeface="楷体_GB2312"/>
              </a:rPr>
              <a:t>4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 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。接收液为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0ml 2%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的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H</a:t>
            </a:r>
            <a:r>
              <a:rPr b="0" lang="zh-CN" sz="2000" spc="-1" strike="noStrike" baseline="-30000">
                <a:solidFill>
                  <a:srgbClr val="003366"/>
                </a:solidFill>
                <a:latin typeface="楷体_GB2312"/>
                <a:ea typeface="楷体_GB2312"/>
              </a:rPr>
              <a:t>3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BO</a:t>
            </a:r>
            <a:r>
              <a:rPr b="0" lang="zh-CN" sz="2000" spc="-1" strike="noStrike" baseline="-30000">
                <a:solidFill>
                  <a:srgbClr val="003366"/>
                </a:solidFill>
                <a:latin typeface="楷体_GB2312"/>
                <a:ea typeface="楷体_GB2312"/>
              </a:rPr>
              <a:t>4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溶液，其中加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滴混合指示剂，接收时使装置的冷凝管下口浸入吸收液的液面之下。</a:t>
            </a:r>
            <a:r>
              <a:rPr b="0" lang="zh-CN" sz="20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28520" y="1905120"/>
            <a:ext cx="4800600" cy="39621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952880" y="1905120"/>
            <a:ext cx="4191120" cy="3905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979720" y="761760"/>
            <a:ext cx="29224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设备安装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（二）消化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19360" y="2286000"/>
            <a:ext cx="4267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准确称取固体样品</a:t>
            </a:r>
            <a:r>
              <a:rPr b="0" lang="zh-CN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0.2</a:t>
            </a:r>
            <a:r>
              <a:rPr b="0" lang="zh-CN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～</a:t>
            </a:r>
            <a:r>
              <a:rPr b="0" lang="zh-CN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2.0g</a:t>
            </a:r>
            <a:r>
              <a:rPr b="0" lang="zh-CN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，液体</a:t>
            </a:r>
            <a:r>
              <a:rPr b="0" lang="zh-CN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10</a:t>
            </a:r>
            <a:r>
              <a:rPr b="0" lang="zh-CN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～</a:t>
            </a:r>
            <a:r>
              <a:rPr b="0" lang="zh-CN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20ml</a:t>
            </a:r>
            <a:r>
              <a:rPr b="0" lang="zh-CN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，置于</a:t>
            </a:r>
            <a:r>
              <a:rPr b="0" lang="zh-CN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500ml</a:t>
            </a:r>
            <a:r>
              <a:rPr b="0" lang="zh-CN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凯氏烧瓶中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加入硫酸铜</a:t>
            </a:r>
            <a:r>
              <a:rPr b="0" lang="zh-CN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0.2g</a:t>
            </a:r>
            <a:r>
              <a:rPr b="0" lang="zh-CN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，硫酸钾</a:t>
            </a:r>
            <a:r>
              <a:rPr b="0" lang="zh-CN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6g</a:t>
            </a:r>
            <a:r>
              <a:rPr b="0" lang="zh-CN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，浓硫酸</a:t>
            </a:r>
            <a:r>
              <a:rPr b="0" lang="zh-CN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20ml</a:t>
            </a:r>
            <a:r>
              <a:rPr b="0" lang="zh-CN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，摇匀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置于电炉上，成</a:t>
            </a:r>
            <a:r>
              <a:rPr b="0" lang="zh-CN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45</a:t>
            </a:r>
            <a:r>
              <a:rPr b="0" lang="zh-CN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度角，小火加热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待泡沫停止后，加大火力，保持未沸，至液体变蓝绿色透明，再继续加热</a:t>
            </a:r>
            <a:r>
              <a:rPr b="0" lang="zh-CN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0.5</a:t>
            </a:r>
            <a:r>
              <a:rPr b="0" lang="zh-CN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～</a:t>
            </a:r>
            <a:r>
              <a:rPr b="0" lang="zh-CN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1h</a:t>
            </a:r>
            <a:r>
              <a:rPr b="0" lang="zh-CN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，取下冷却后，小心加入</a:t>
            </a:r>
            <a:r>
              <a:rPr b="0" lang="zh-CN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20ml</a:t>
            </a:r>
            <a:r>
              <a:rPr b="0" lang="zh-CN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水，转移至</a:t>
            </a:r>
            <a:r>
              <a:rPr b="0" lang="zh-CN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1000ml</a:t>
            </a:r>
            <a:r>
              <a:rPr b="0" lang="zh-CN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容量瓶，定容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40384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54120" y="455760"/>
            <a:ext cx="84135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276120">
              <a:lnSpc>
                <a:spcPct val="100000"/>
              </a:lnSpc>
              <a:buClr>
                <a:srgbClr val="ff0000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仪器的洗涤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打开电源，烧瓶中液体沸腾时开始计时，让蒸汽通过反应室洗涤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0-15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分钟，用蒸馏水冲洗反应室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3-4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次，冲洗时，用手捏紧橡皮管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3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，由于反应室外层蒸汽冷缩，压力减低，反应室内凝结的水可自动吸出进入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6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，打开皮管夹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7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排尽废液。皮管夹暂时不关闭。检验是否洗干净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00400" y="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蒸馏、吸收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95280" y="2290680"/>
            <a:ext cx="609624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80880" y="23623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加样：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加样前务必打开皮管夹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7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（这是本实验</a:t>
            </a: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关键之一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，否则，样品会被倒抽到反应室外层）。用吸管取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2ml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稀释消化液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(</a:t>
            </a: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对照加的是</a:t>
            </a: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ml</a:t>
            </a: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蒸馏水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)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，细心地由蒸馏器小玻杯注入反应室，塞紧棒状玻塞。将一个盛有硼酸指示剂混合液的锥形瓶接于冷凝管下，使冷凝器下端浸没在液面之下（这是本实验</a:t>
            </a: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最关键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的一步）。用量筒取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30% NaOH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溶液约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0ml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放入小玻璃杯，</a:t>
            </a: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轻轻地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旋转着向上提起棒状玻塞，使碱液慢慢流入反应室，当流到一半时，将玻塞盖紧，向玻璃杯中加入约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5ml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蒸馏水。再轻提玻璃塞，使一半蒸馏水慢慢流入反应室 ，另一半留在玻璃杯中作水封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消化样品及空白的蒸馏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：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将电炉放回蒸汽发生器下面，继续加热，沸腾后夹紧皮管夹，开始蒸馏。此时锥形瓶中溶液由紫红色变为绿色。自变色起开始记时，蒸馏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3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～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5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分钟，然后移动锥形瓶，使硼酸液面离开冷凝管口约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cm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，并用少量蒸馏水洗涤冷凝管口外面，继续蒸馏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分钟。移开锥形瓶，用表面皿覆盖瓶口，待其余样品蒸馏完毕后，一同滴定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2362320"/>
            <a:ext cx="83059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将上述吸收液用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0.01000mol/L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盐酸标准溶液直接滴定至蓝色变为微红色即为终点，记录盐酸用量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计算公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209680" y="3611520"/>
                <a:ext cx="455148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4</m:t>
                        </m:r>
                        <m:r>
                          <m:t xml:space="preserve">×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609480" y="4572000"/>
            <a:ext cx="7162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W—</a:t>
            </a:r>
            <a:r>
              <a:rPr b="0" lang="zh-TW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蛋白质的质量分数，</a:t>
            </a:r>
            <a:r>
              <a:rPr b="0" lang="zh-TW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%</a:t>
            </a:r>
            <a:r>
              <a:rPr b="0" lang="zh-TW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c—</a:t>
            </a:r>
            <a:r>
              <a:rPr b="0" lang="zh-TW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盐酸标准液的浓度，</a:t>
            </a:r>
            <a:r>
              <a:rPr b="0" lang="en-US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mol/L</a:t>
            </a:r>
            <a:r>
              <a:rPr b="0" lang="en-US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V—</a:t>
            </a:r>
            <a:r>
              <a:rPr b="0" lang="zh-TW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试剂滴定消耗标准液量，</a:t>
            </a:r>
            <a:r>
              <a:rPr b="0" lang="en-US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mL</a:t>
            </a:r>
            <a:r>
              <a:rPr b="0" lang="en-US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m—</a:t>
            </a:r>
            <a:r>
              <a:rPr b="0" lang="zh-TW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样品质量，</a:t>
            </a:r>
            <a:r>
              <a:rPr b="0" lang="en-US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g</a:t>
            </a:r>
            <a:r>
              <a:rPr b="0" lang="en-US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0.014—</a:t>
            </a:r>
            <a:r>
              <a:rPr b="0" lang="zh-TW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氮的毫摩尔质量，</a:t>
            </a:r>
            <a:r>
              <a:rPr b="0" lang="en-US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g/mmol</a:t>
            </a:r>
            <a:r>
              <a:rPr b="0" lang="en-US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F—</a:t>
            </a:r>
            <a:r>
              <a:rPr b="0" lang="zh-TW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蛋白质系数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，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6.25</a:t>
            </a:r>
            <a:r>
              <a:rPr b="0" lang="zh-TW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11113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仪器的洗涤同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.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待样品和空白消化液均蒸馏完毕后，同时进行滴定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cccc"/>
                </a:solidFill>
                <a:latin typeface="Arial"/>
              </a:rPr>
              <a:t>七、注意事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Aft>
                <a:spcPts val="300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必须仔细检查凯氏蒸馏仪的各个连接处，保证不漏气。所用橡皮管、塞须浸在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0%NaOH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溶液中，约煮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0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分钟，水洗、水煮，再用水洗数次，保证洁净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300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凯氏蒸馏仪必须事先反复清洗，保证洁净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300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使用消化架时，须斜放凯氏烧瓶（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45℃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左右）。火力先小后大，避免黑色消化色物溅到瓶口、瓶颈壁上，以致影响测定结果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300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蒸馏时，小心、准确地加入消化液。加样时最好将电炉撤离。蒸馏时，切忌火力不稳，否则将发生倒吸现象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300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滴定前，仔细检查滴定管是否洁净，是否漏液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300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蒸馏后应及时清洗蒸馏仪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四、自动凯氏定氮仪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464832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称取样品（通常为一克）加入试剂，消解催化剂；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在预定温度下将样品（</a:t>
            </a:r>
            <a:r>
              <a:rPr b="0" lang="zh-CN" sz="2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6-40</a:t>
            </a:r>
            <a:r>
              <a:rPr b="0" lang="zh-CN" sz="2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个随消化炉的不同而不同）同时消化（一般条件为</a:t>
            </a:r>
            <a:r>
              <a:rPr b="0" lang="zh-CN" sz="2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420</a:t>
            </a:r>
            <a:r>
              <a:rPr b="0" lang="zh-CN" sz="2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度，</a:t>
            </a:r>
            <a:r>
              <a:rPr b="0" lang="zh-CN" sz="2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30-45</a:t>
            </a:r>
            <a:r>
              <a:rPr b="0" lang="zh-CN" sz="2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分钟）；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经冷却和稀释，一支消化管和接受瓶放置到仪器上。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按下</a:t>
            </a:r>
            <a:r>
              <a:rPr b="0" lang="zh-CN" sz="2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start</a:t>
            </a:r>
            <a:r>
              <a:rPr b="0" lang="zh-CN" sz="2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键，起动碱泵加碱，蒸汽泵加蒸汽，硼酸泵向接受瓶中加硼酸。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选择蒸馏时间四—五分钟，自动完成蒸馏；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滴定，计算氮及蛋白含量。</a:t>
            </a:r>
            <a:br>
              <a:rPr sz="1600"/>
            </a:br>
            <a:r>
              <a:rPr b="0" lang="zh-CN" sz="1600" spc="-1" strike="noStrike">
                <a:solidFill>
                  <a:srgbClr val="003366"/>
                </a:solidFill>
                <a:latin typeface="楷体_GB2312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943600" y="76320"/>
            <a:ext cx="2327400" cy="3276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rcRect l="11852" t="4445" r="5190" b="4445"/>
          <a:stretch/>
        </p:blipFill>
        <p:spPr>
          <a:xfrm>
            <a:off x="5977080" y="3276720"/>
            <a:ext cx="24462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cccc"/>
                </a:solidFill>
                <a:latin typeface="Arial"/>
              </a:rPr>
              <a:t>八、作业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162920" cy="25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. 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测定标准硫酸铵和空白的目的是什么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2. 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蒸馏时冷凝管下端为什么要浸没在液体中？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3. 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如何证明蒸馏器洗涤干净？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一、概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（一）测定意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、蛋白质作为三大供能物质，是食品的重要营养指标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、人体组织的构成成分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、构成体内各种重要物质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、蛋白质不是越多越好（增加肾负担，骨质疏松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、不同食品中蛋白质的含量不同，可作为质量检验的一种重要手段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Arial"/>
              </a:rPr>
              <a:t>（二）各种食物中蛋白质的含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在各种不同的食品中蛋白质的含量各不相同，一般说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来</a:t>
            </a:r>
            <a:r>
              <a:rPr b="0" lang="zh-TW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动物性食品的蛋白质含量高于植物性食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例如牛肉中蛋白质含量为</a:t>
            </a:r>
            <a:r>
              <a:rPr b="0" lang="zh-TW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20.0%</a:t>
            </a:r>
            <a:r>
              <a:rPr b="0" lang="zh-TW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左右，猪肉中为</a:t>
            </a:r>
            <a:r>
              <a:rPr b="0" lang="zh-TW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9.5%</a:t>
            </a:r>
            <a:r>
              <a:rPr b="0" lang="zh-TW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，兔肉为</a:t>
            </a:r>
            <a:r>
              <a:rPr b="0" lang="zh-TW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21%</a:t>
            </a:r>
            <a:r>
              <a:rPr b="0" lang="zh-TW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，鸡肉为</a:t>
            </a:r>
            <a:r>
              <a:rPr b="0" lang="zh-TW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20%</a:t>
            </a:r>
            <a:r>
              <a:rPr b="0" lang="zh-TW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，牛乳为</a:t>
            </a:r>
            <a:r>
              <a:rPr b="0" lang="zh-TW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3.5%</a:t>
            </a:r>
            <a:r>
              <a:rPr b="0" lang="zh-TW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黄鱼为</a:t>
            </a:r>
            <a:r>
              <a:rPr b="0" lang="zh-TW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7.0%</a:t>
            </a:r>
            <a:r>
              <a:rPr b="0" lang="zh-TW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，带鱼为</a:t>
            </a:r>
            <a:r>
              <a:rPr b="0" lang="zh-TW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8.0%</a:t>
            </a:r>
            <a:r>
              <a:rPr b="0" lang="zh-TW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，大豆为</a:t>
            </a:r>
            <a:r>
              <a:rPr b="0" lang="zh-TW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40%</a:t>
            </a:r>
            <a:r>
              <a:rPr b="0" lang="zh-TW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，稻米 为</a:t>
            </a:r>
            <a:r>
              <a:rPr b="0" lang="zh-TW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8.5%</a:t>
            </a:r>
            <a:r>
              <a:rPr b="0" lang="zh-TW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，面粉为</a:t>
            </a:r>
            <a:r>
              <a:rPr b="0" lang="zh-TW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9.9%</a:t>
            </a:r>
            <a:r>
              <a:rPr b="0" lang="zh-TW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，菠菜为</a:t>
            </a:r>
            <a:r>
              <a:rPr b="0" lang="zh-TW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2.4%</a:t>
            </a:r>
            <a:r>
              <a:rPr b="0" lang="zh-TW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，黄瓜为</a:t>
            </a:r>
            <a:r>
              <a:rPr b="0" lang="zh-TW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.0%</a:t>
            </a:r>
            <a:r>
              <a:rPr b="0" lang="zh-TW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，桃为</a:t>
            </a:r>
            <a:r>
              <a:rPr b="0" lang="zh-TW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0.8%</a:t>
            </a:r>
            <a:r>
              <a:rPr b="0" lang="zh-TW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，柑橘为</a:t>
            </a:r>
            <a:r>
              <a:rPr b="0" lang="zh-TW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0.9%</a:t>
            </a:r>
            <a:r>
              <a:rPr b="0" lang="zh-TW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，苹果为</a:t>
            </a:r>
            <a:r>
              <a:rPr b="0" lang="zh-TW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0.4%</a:t>
            </a:r>
            <a:r>
              <a:rPr b="0" lang="zh-TW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和油菜为</a:t>
            </a:r>
            <a:r>
              <a:rPr b="0" lang="zh-TW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.5%</a:t>
            </a:r>
            <a:r>
              <a:rPr b="0" lang="zh-TW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左右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华文中宋"/>
                <a:ea typeface="华文中宋"/>
              </a:rPr>
              <a:t>新型蛋白质类食品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单细胞蛋白、螺旋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螺旋藻植物蛋白质含量最高达</a:t>
            </a:r>
            <a:r>
              <a:rPr b="0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70%</a:t>
            </a:r>
            <a:r>
              <a:rPr b="0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，相当于牛肉的</a:t>
            </a:r>
            <a:r>
              <a:rPr b="0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倍，包含全部八种人体所需又无法自身合成的氨基酸，是人类最为最理想的蛋白质天然宝库。</a:t>
            </a:r>
            <a:br>
              <a:rPr sz="2400"/>
            </a:br>
            <a:r>
              <a:rPr b="0" lang="zh-CN" sz="2400" spc="-1" strike="noStrike">
                <a:solidFill>
                  <a:srgbClr val="006600"/>
                </a:solidFill>
                <a:latin typeface="楷体_GB2312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（三）测定原理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2370240"/>
            <a:ext cx="83818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凯氏定氮法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通过测定食品中</a:t>
            </a:r>
            <a:r>
              <a:rPr b="0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N</a:t>
            </a:r>
            <a:r>
              <a:rPr b="0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的含量，再乘以蛋白质系数，就可以得到蛋白质的含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= N×6.25 = 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蛋白质含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而一般来说，食品中蛋白质的含氮量为</a:t>
            </a:r>
            <a:r>
              <a:rPr b="0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16</a:t>
            </a:r>
            <a:r>
              <a:rPr b="0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％，所以，测得的含氮量再乘以</a:t>
            </a:r>
            <a:r>
              <a:rPr b="0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6.25</a:t>
            </a:r>
            <a:r>
              <a:rPr b="0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，就能得到蛋白质的含量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438280" y="4016520"/>
          <a:ext cx="657360" cy="70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4016520"/>
                    <a:ext cx="657360" cy="70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二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实验目的和要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000" y="2387520"/>
            <a:ext cx="7473960" cy="22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.</a:t>
            </a: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学习微量凯氏定氮法的原理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2.</a:t>
            </a: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掌握微量凯氏定氮法的操作技术，仪器的安装，样品的消化、蒸馏、滴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3.</a:t>
            </a: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含氮量的计算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25400" y="13399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三</a:t>
            </a:r>
            <a:r>
              <a:rPr b="0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.</a:t>
            </a:r>
            <a:r>
              <a:rPr b="0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实验原理 </a:t>
            </a:r>
            <a:r>
              <a:rPr b="0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2040" y="2319480"/>
            <a:ext cx="81010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00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样品与浓硫酸和催化剂一同加热消化，使蛋白质分解，其中碳和氢被氧化为二氧化碳和水逸出，而样品中的有机氮转化为氨与硫酸结合成硫酸铵。然后加碱蒸馏，使氨蒸出，用硼酸吸收后再以标准盐酸或硫酸溶液滴定。根据标准酸消耗量可计算出蛋白质的含量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00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本法适用范围约为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0.2-1.0mg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氮的测定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14400" y="2955960"/>
            <a:ext cx="70866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2N</a:t>
            </a:r>
            <a:r>
              <a:rPr b="1" lang="en-US" sz="2000" spc="-1" strike="noStrike" baseline="-30000">
                <a:solidFill>
                  <a:srgbClr val="003366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OH</a:t>
            </a:r>
            <a:r>
              <a:rPr b="1" lang="zh-CN" sz="2000" spc="-1" strike="noStrike">
                <a:solidFill>
                  <a:srgbClr val="003366"/>
                </a:solidFill>
                <a:latin typeface="Times New Roman"/>
              </a:rPr>
              <a:t>＋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(NH</a:t>
            </a:r>
            <a:r>
              <a:rPr b="1" lang="en-US" sz="2000" spc="-1" strike="noStrike" baseline="-30000">
                <a:solidFill>
                  <a:srgbClr val="003366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)</a:t>
            </a:r>
            <a:r>
              <a:rPr b="1" lang="en-US" sz="2000" spc="-1" strike="noStrike" baseline="-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SO</a:t>
            </a:r>
            <a:r>
              <a:rPr b="1" lang="en-US" sz="2000" spc="-1" strike="noStrike" baseline="-30000">
                <a:solidFill>
                  <a:srgbClr val="003366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66"/>
                </a:solidFill>
                <a:latin typeface="Times New Roman"/>
              </a:rPr>
              <a:t>＝</a:t>
            </a:r>
            <a:r>
              <a:rPr b="1" lang="en-US" sz="2000" spc="-1" strike="noStrike" baseline="-30000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2NH</a:t>
            </a:r>
            <a:r>
              <a:rPr b="1" lang="en-US" sz="2000" spc="-1" strike="noStrike" baseline="-30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↓</a:t>
            </a:r>
            <a:r>
              <a:rPr b="1" lang="zh-CN" sz="2000" spc="-1" strike="noStrike">
                <a:solidFill>
                  <a:srgbClr val="003366"/>
                </a:solidFill>
                <a:latin typeface="Times New Roman"/>
              </a:rPr>
              <a:t>＋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Na</a:t>
            </a:r>
            <a:r>
              <a:rPr b="1" lang="en-US" sz="2000" spc="-1" strike="noStrike" baseline="-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SO</a:t>
            </a:r>
            <a:r>
              <a:rPr b="1" lang="en-US" sz="2000" spc="-1" strike="noStrike" baseline="-30000">
                <a:solidFill>
                  <a:srgbClr val="003366"/>
                </a:solidFill>
                <a:latin typeface="Times New Roman"/>
              </a:rPr>
              <a:t>4 </a:t>
            </a:r>
            <a:r>
              <a:rPr b="1" lang="zh-CN" sz="2000" spc="-1" strike="noStrike">
                <a:solidFill>
                  <a:srgbClr val="003366"/>
                </a:solidFill>
                <a:latin typeface="Times New Roman"/>
              </a:rPr>
              <a:t>＋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2H</a:t>
            </a:r>
            <a:r>
              <a:rPr b="1" lang="en-US" sz="2000" spc="-1" strike="noStrike" baseline="-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3657600"/>
            <a:ext cx="7391520" cy="12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2NH</a:t>
            </a:r>
            <a:r>
              <a:rPr b="1" lang="en-US" sz="2000" spc="-1" strike="noStrike" baseline="-30000">
                <a:solidFill>
                  <a:srgbClr val="003366"/>
                </a:solidFill>
                <a:latin typeface="Times New Roman"/>
              </a:rPr>
              <a:t>3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+</a:t>
            </a:r>
            <a:r>
              <a:rPr b="1" lang="en-US" sz="2000" spc="-1" strike="noStrike" baseline="-30000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4H</a:t>
            </a:r>
            <a:r>
              <a:rPr b="1" lang="en-US" sz="2000" spc="-1" strike="noStrike" baseline="-30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BO</a:t>
            </a:r>
            <a:r>
              <a:rPr b="1" lang="en-US" sz="2000" spc="-1" strike="noStrike" baseline="-30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=(NH</a:t>
            </a:r>
            <a:r>
              <a:rPr b="1" lang="en-US" sz="2000" spc="-1" strike="noStrike" baseline="-30000">
                <a:solidFill>
                  <a:srgbClr val="003366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)</a:t>
            </a:r>
            <a:r>
              <a:rPr b="1" lang="en-US" sz="2000" spc="-1" strike="noStrike" baseline="-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B</a:t>
            </a:r>
            <a:r>
              <a:rPr b="1" lang="en-US" sz="2000" spc="-1" strike="noStrike" baseline="-30000">
                <a:solidFill>
                  <a:srgbClr val="003366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O</a:t>
            </a:r>
            <a:r>
              <a:rPr b="1" lang="en-US" sz="2000" spc="-1" strike="noStrike" baseline="-30000">
                <a:solidFill>
                  <a:srgbClr val="003366"/>
                </a:solidFill>
                <a:latin typeface="Times New Roman"/>
              </a:rPr>
              <a:t>7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+5H</a:t>
            </a:r>
            <a:r>
              <a:rPr b="1" lang="en-US" sz="2000" spc="-1" strike="noStrike" baseline="-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(NH</a:t>
            </a:r>
            <a:r>
              <a:rPr b="1" lang="en-US" sz="2000" spc="-1" strike="noStrike" baseline="-30000">
                <a:solidFill>
                  <a:srgbClr val="003366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)</a:t>
            </a:r>
            <a:r>
              <a:rPr b="1" lang="en-US" sz="2000" spc="-1" strike="noStrike" baseline="-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B</a:t>
            </a:r>
            <a:r>
              <a:rPr b="1" lang="en-US" sz="2000" spc="-1" strike="noStrike" baseline="-30000">
                <a:solidFill>
                  <a:srgbClr val="003366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O</a:t>
            </a:r>
            <a:r>
              <a:rPr b="1" lang="en-US" sz="2000" spc="-1" strike="noStrike" baseline="-30000">
                <a:solidFill>
                  <a:srgbClr val="003366"/>
                </a:solidFill>
                <a:latin typeface="Times New Roman"/>
              </a:rPr>
              <a:t>7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+2HCl+5H</a:t>
            </a:r>
            <a:r>
              <a:rPr b="1" lang="en-US" sz="2000" spc="-1" strike="noStrike" baseline="-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O=2NH</a:t>
            </a:r>
            <a:r>
              <a:rPr b="1" lang="en-US" sz="2000" spc="-1" strike="noStrike" baseline="-30000">
                <a:solidFill>
                  <a:srgbClr val="003366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Cl+4H</a:t>
            </a:r>
            <a:r>
              <a:rPr b="1" lang="en-US" sz="2000" spc="-1" strike="noStrike" baseline="-30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BO</a:t>
            </a:r>
            <a:r>
              <a:rPr b="1" lang="en-US" sz="2000" spc="-1" strike="noStrike" baseline="-30000">
                <a:solidFill>
                  <a:srgbClr val="003366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2286000"/>
            <a:ext cx="8763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2NH</a:t>
            </a:r>
            <a:r>
              <a:rPr b="0" lang="zh-CN" sz="20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(CH)</a:t>
            </a:r>
            <a:r>
              <a:rPr b="0" lang="zh-CN" sz="20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COOH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＋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13H</a:t>
            </a:r>
            <a:r>
              <a:rPr b="0" lang="zh-CN" sz="20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SO4 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＝ 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(NH</a:t>
            </a:r>
            <a:r>
              <a:rPr b="0" lang="zh-CN" sz="2000" spc="-1" strike="noStrike" baseline="-25000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CN" sz="20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SO</a:t>
            </a:r>
            <a:r>
              <a:rPr b="0" lang="zh-CN" sz="2000" spc="-1" strike="noStrike" baseline="-25000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＋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6CO</a:t>
            </a:r>
            <a:r>
              <a:rPr b="0" lang="zh-CN" sz="20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＋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12SO</a:t>
            </a:r>
            <a:r>
              <a:rPr b="0" lang="zh-CN" sz="20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＋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16H</a:t>
            </a:r>
            <a:r>
              <a:rPr b="0" lang="zh-CN" sz="20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1386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宋体"/>
              </a:rPr>
              <a:t>四</a:t>
            </a:r>
            <a:r>
              <a:rPr b="0" lang="zh-CN" sz="3200" spc="-1" strike="noStrike">
                <a:solidFill>
                  <a:srgbClr val="0066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6600"/>
                </a:solidFill>
                <a:latin typeface="宋体"/>
              </a:rPr>
              <a:t>实验</a:t>
            </a:r>
            <a:r>
              <a:rPr b="0" lang="zh-CN" sz="3200" spc="-1" strike="noStrike">
                <a:solidFill>
                  <a:srgbClr val="006600"/>
                </a:solidFill>
                <a:latin typeface="Times New Roman"/>
              </a:rPr>
              <a:t>仪器</a:t>
            </a:r>
            <a:r>
              <a:rPr b="0" lang="zh-CN" sz="3200" spc="-1" strike="noStrike">
                <a:solidFill>
                  <a:srgbClr val="0066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2346480"/>
            <a:ext cx="3124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凯氏烧瓶（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00ml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）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:1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个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凯氏定氮装置：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套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移液管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(10ml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和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2ml):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各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支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酸式滴定管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(10ml): 1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支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锥形瓶（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50ml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）：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4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个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小玻璃珠：数个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电炉：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72320" y="63086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cccc"/>
                </a:solidFill>
                <a:latin typeface="Times New Roman"/>
              </a:rPr>
              <a:t>凯氏定氮装置图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657600" y="1490760"/>
            <a:ext cx="5486400" cy="52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3-09-11T07:01:33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