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DD82-B727-4DEE-B195-B1B562D4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7A80-9348-43F2-9E98-D57BF9FD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470C-A05C-43CF-92D1-61ACD272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56E8-E042-4BD8-9906-C186CA38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132F-2022-49BA-BBE9-04F8665A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FEE-405F-479B-9C53-0B8D554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F7D1-D623-4AA5-9B4B-5294C252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3F56-176E-4996-89A3-219F26A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3A5-D392-4873-BDB2-16D6BAB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BDB-6D4E-44C0-8B36-EF2F75C7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53C2-CC67-43ED-9766-660EE9B5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1AD8-DFE5-4BE0-8B75-1A053B6E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FF2A-6697-4712-BAAB-38A3297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50B1-7B20-4B5D-A1D0-E4428BE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4763-AC57-42E4-B3C0-659BF3D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BCC-3DD3-4236-8D8B-AB0E3B4B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E83-38E2-4B0F-9989-291A74EB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305D-51BB-44A1-B83A-2F9EFE9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47D8-4E1B-44B4-A60D-8711A04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E0C9-36CC-48CB-89F2-E2102DED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6992-79DE-4681-9F1C-CBB02F3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C86F-4567-4BA9-9ABA-A9408AA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2E5D-1521-4730-83F6-147377D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3BBE-DB36-4302-AB64-E6C62FA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CCBF-D2EE-4D2B-BEE9-F4CAE9B661A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9A72-5771-480C-AC1A-0D09121D96D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/../&#34880;&#28165;&#34507;&#30333;&#37259;&#37240;&#32420;&#32500;&#32032;&#34180;&#33180;&#30005;&#27891;/&#22270;&#29255;/S4&#20202;&#22120;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  <a:ea typeface="楷体_GB2312"/>
              </a:rPr>
              <a:t>血清蛋白醋酸纤维素薄膜电泳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24720" y="5084280"/>
            <a:ext cx="68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06872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60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721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点样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点样时，先将毛细血管插入血清中，封住上端，在载玻片的一端均匀涂过，使样品连续、均匀、适量，把载玻片在薄膜毛面上轻而温和地印一下。点样区距阴极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5c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（见图）。此步是实验的关键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3214800"/>
            <a:ext cx="5437080" cy="1822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5195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醋酸纤维素薄膜规格及点样位置示意图（虚线处为点样位置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电 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点样端的薄膜平贴在阴极电泳槽支架的滤纸桥上（点样面朝下），另一端平贴在阳极端支架上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要求薄膜紧贴滤纸桥并绷直，中间不能下垂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连接好电泳仪。在室温下电泳，打开电源开关，调节电流强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3mA/c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膜宽度（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薄膜则为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4.4mA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通电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min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，调节电流强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5mA/c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膜宽度（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薄膜则为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mA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 ，电泳时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min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电泳后，调节旋钮使电流为零，关闭电泳仪切断电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4656240"/>
            <a:ext cx="6248520" cy="18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染色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泳完毕后将薄膜取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放在含氨基黑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B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染色液的培养皿中浸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 m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漂洗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薄膜从染色液中取出后移置漂洗液中漂洗数次，直至背景蓝色脱尽，条带清晰为止，可得到色带清晰的电泳图谱 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12200" y="412560"/>
            <a:ext cx="77094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记录和分析实验结果</a:t>
            </a:r>
            <a:br>
              <a:rPr sz="32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漂洗完毕后将薄膜取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放在滤纸上。将薄膜上的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色带根据其颜色深浅、形状、大小及相对位置进行描述、记录在预习本上，并判断分析其结果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9600" y="2585880"/>
            <a:ext cx="6521400" cy="2824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5769000"/>
            <a:ext cx="861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理好桌面上的仪器和试剂，并注意清洁自己的操作台，请老师验收，实验报告当场交给老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  <a:ea typeface="楷体_GB2312"/>
              </a:rPr>
              <a:t>七、注意事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薄膜的浸润与选膜是电泳成败的关键之一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点样时，应将薄膜表面多余的缓冲液用滤纸吸去，吸水量以不干不湿为宜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点样时，动作要轻、稳，用力不能太大，以免损坏膜片或印出凹陷影响电泳区带分离效果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点样应点在薄膜的毛面上，点样量要适量，不宜过多或过少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电泳时应将薄膜的点样端置于电泳槽的负极端，且点样面向下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应控制染色时间。时间长，薄膜底色不易脱去；时间太短，着色不易区分，或造成条带染色不均匀，必要时可进行复染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4480" y="896400"/>
            <a:ext cx="5483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  <a:ea typeface="楷体_GB2312"/>
              </a:rPr>
              <a:t>八、思考题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2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据人血清中血清蛋白各组分等电点，如何估计它们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H8.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巴比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比妥纳电极缓冲液中移动的相对位置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简述醋酸纤维素薄膜电泳原理及优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泳图谱清晰的关键是什么？如何正确操作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一、实验目的与要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了解电泳技术的一般原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习醋酸纤维素薄膜电泳操作技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测定人血清中各种蛋白质的相对百分含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二、实验原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电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指带电粒子在电场中向本身所带电荷相反的电极移动的现象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一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H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件下，不同的蛋白质由于具有不同的等电点而带不同性质的电荷，因而在一定的电场中它们的移动方向和移动速度也不同，即它们的电泳迁移率不同，因此，可使它们分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影响电泳迁移率的因素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在因素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蛋白所带净电荷的量、蛋白的大小和形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界因素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场强度、溶液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H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值、溶液的离子强度和电渗现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醋酸纤维素溶于有机溶剂（如：丙酮、氯仿、氯乙烯、乙酸乙酯等）后，涂抹成均匀的薄膜则成为醋酸纤维素薄膜。该膜具有均一的泡沫状的结构，厚度约为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0 </a:t>
            </a:r>
            <a:r>
              <a:rPr b="1" lang="el-GR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μ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有很强的通透性，对分子移动阻力很小。该薄膜电泳具有微量、快速、简便、分辨力高，对样品无拖尾和吸附现象等优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6932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醋酸纤维素薄膜电泳可将血清蛋白按电泳速度分为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区带，从正极端依次为清蛋白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球蛋白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球蛋白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球蛋白及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γ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球蛋白，经染色可计算出各蛋白质的百分含量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7440" y="2355840"/>
            <a:ext cx="4570560" cy="219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4775040"/>
            <a:ext cx="52866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5800" y="2077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  <a:ea typeface="楷体_GB2312"/>
              </a:rPr>
              <a:t>三、实验器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1. DYY-6C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型  双稳定时电泳仪和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DYY-Ⅲ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型电泳槽，均为北京市六一仪器厂生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醋酸纤维薄膜（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2 cm×8cm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培养皿：一排桌子公用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套，包括平衡、染色各用一套，漂洗用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套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点样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滤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载玻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镊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8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玻棒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823" t="20346" r="6422" b="25239"/>
          <a:stretch/>
        </p:blipFill>
        <p:spPr>
          <a:xfrm>
            <a:off x="6095880" y="1052640"/>
            <a:ext cx="2592360" cy="154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7710" t="5320" r="7206" b="8657"/>
          <a:stretch/>
        </p:blipFill>
        <p:spPr>
          <a:xfrm>
            <a:off x="6175440" y="2708280"/>
            <a:ext cx="2663640" cy="1884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653000"/>
            <a:ext cx="266400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  <a:ea typeface="楷体_GB2312"/>
              </a:rPr>
              <a:t>四、实验试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比妥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比妥纳缓冲液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pH8.6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07mol/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离子强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0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66g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比妥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.76g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比妥纳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置于三角烧瓶中，加蒸馏水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稍加热溶解，冷却后用蒸馏水定容至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置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存，备用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清蛋白染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染色液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0.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％氨基黑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B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称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氨基黑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B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加蒸馏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甲醇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5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冰乙酸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1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混匀溶解后置具塞试剂瓶内贮存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漂洗液：取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％乙醇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45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冰乙酸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AR)5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和蒸馏水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ml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混匀置具塞试剂瓶中贮存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楷体_GB2312"/>
              </a:rPr>
              <a:t>五、测试材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43324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未溶血的人或动物血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泳仪由电泳槽和稳压电源两部分组成，，两者之间有专门的连线连接。稳压电源用于调节电压和通电时间。当电泳槽和稳压电源连接好后，将点好样的醋酸纤维薄膜搭在滤纸桥上，盖上盖子，通电，调整好电压，进行电泳。注意电泳槽的电极方向，负极应与醋酸纤维薄膜上的点样原点在同一侧。目前，该电泳仪已改进为数显式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YY-6C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。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浸泡：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×8 c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醋酸纤维薄膜迎着光辨别光泽面和无光泽面。在无光泽面距短边一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5 cm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用铅笔轻轻画一条点样线，将之置于盛有缓冲液的平皿中，浸泡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 min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可用于点样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点样：用镊子取出浸透的薄膜，夹在两层粗滤纸内吸干多余的缓冲液，然后平铺在玻璃板上（无光泽面朝上）。在另一 载玻片上滴一滴血清，点样器（用盖玻片的一边）在血清上蘸一下（可来回移动一次），再将点样器轻印在加样线上，使血清渗透到薄膜内，形成均匀的直线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1449360" y="76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操作指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楷体_GB2312"/>
                <a:ea typeface="楷体_GB2312"/>
              </a:rPr>
              <a:t>六、操作步骤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醋酸纤维素薄膜的润湿与选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醋酸纤维素薄膜完全浸泡于缓冲液中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min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，每组取醋酸纤维素薄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，取时用镊子夹住薄膜一端，放在折叠的滤纸中，并用它吸干表面液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泳槽的准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泳槽有两个互相隔离的槽，各自装有缓冲液，接不同的电极，红色为正极，黑色为负极。每个槽上都有一根可移动的横杆，滤纸或纱布的一头搭在横杆上，另一头浸入缓冲液中，形成了滤纸桥。两杆之间的距离调节到略小于醋酸纤维薄膜的长度，点好样的醋酸纤维薄膜就搭在滤纸桥上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6:48:1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