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047-EEF0-4994-80E6-9CFF47F7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43F6-E05E-4A0A-9D8E-C61296BC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BDC-6EDC-4EC7-BEE6-B49F9B34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17A9-3F3B-4605-9F33-41726EF7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BB3B-0E9F-48B1-8355-A3817688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12B6-D11D-41A2-90C4-CAAA42DE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A2EC-040D-4C2F-835B-CF6B6FC7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2D20-C5BF-47D6-9877-92D80ABD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530D-82D8-484F-B2D0-57F3D514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FC0F-FD95-47D3-AC97-AE9809BC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123C-8877-45AF-A09D-D789D1F7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997B-B82A-458E-8305-07790367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9518-2A88-4C83-AAB9-DB17DE3F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0F3C-E03A-41F3-9E85-F7D9DC80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8E9A-1AC7-4BDE-8067-8BB88723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C88E-5E5B-4288-9730-7AA5F852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0EAA-8D16-4929-AD90-04080A2D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2EA-5825-462B-B6D7-C6DB6128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BFE3-4F47-413E-9053-E4CC9A6C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2DD2-C756-4B4A-84F1-A4F4D337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1C08-C63D-4BFC-A8F1-5EBB2A9C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0954-E404-4BE9-B5AB-773B4C02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04E-618C-4DD2-B4EE-882E0946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928-EB9F-4DB2-8A51-117472A6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0D77-92B0-4EA6-999F-B90CE81F8A33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4294-2D0A-4B71-8146-B71F9A77FB92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楷体_GB2312"/>
              </a:rPr>
              <a:t>酵母核糖核酸的分离及组分鉴定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530920" y="4173480"/>
            <a:ext cx="4284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05080" y="4762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生物化学实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8720" y="443700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安徽师范大学生科院生化教研室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RNA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组分鉴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嘌呤碱：取一支试管，加入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0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滴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5%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硝酸银溶液，逐滴加入浓氨水至沉淀消失，然后加入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0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滴水解液，静止，观察白色絮状沉淀生成即为嘌呤碱银化合物沉淀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核糖：取一支试管，加入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0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滴水解液，然后加入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0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滴地衣酚试剂，在沸水浴中加热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分钟，观察有没有变绿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磷酸：取一支试管，加入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0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滴水解液，然后加入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0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滴定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P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试剂，在沸水浴中加热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分钟，观察有没有变蓝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五、结果与讨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六、注意事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稀碱法提取的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为变性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可用于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组分鉴定及单核苷酸制备，不能作为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生物活性实验材料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地衣酚反应特异性较差，凡戊糖均有此反应。因此地衣酚实验不能作为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与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DNA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鉴别的依据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离心时要配平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水浴时要搅拌，注意安全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七、思考题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2637000"/>
            <a:ext cx="834372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. DNA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对本法测定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含量是否有影响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?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若有影响，如何消除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你能知道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CuO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或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FeCl3·6H2O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在地衣酚法测定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中的作用吗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826920" y="2362320"/>
            <a:ext cx="8088120" cy="4114440"/>
            <a:chOff x="826920" y="2362320"/>
            <a:chExt cx="8088120" cy="4114440"/>
          </a:xfrm>
        </p:grpSpPr>
        <p:graphicFrame>
          <p:nvGraphicFramePr>
            <p:cNvPr id="100" name=""/>
            <p:cNvGraphicFramePr/>
            <p:nvPr/>
          </p:nvGraphicFramePr>
          <p:xfrm>
            <a:off x="826920" y="2362320"/>
            <a:ext cx="8088120" cy="4114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26920" y="2362320"/>
                      <a:ext cx="8088120" cy="411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4456800" y="4247640"/>
              <a:ext cx="1208160" cy="257040"/>
            </a:xfrm>
            <a:prstGeom prst="rightArrow">
              <a:avLst>
                <a:gd name="adj1" fmla="val 50000"/>
                <a:gd name="adj2" fmla="val 117507"/>
              </a:avLst>
            </a:prstGeom>
            <a:solidFill>
              <a:srgbClr val="cc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75240" y="3161160"/>
              <a:ext cx="452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5’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76960" y="4874760"/>
              <a:ext cx="452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5’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98600" y="4187160"/>
              <a:ext cx="452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3’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55320" y="5876280"/>
              <a:ext cx="452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3’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8422200">
              <a:off x="6223320" y="4429080"/>
              <a:ext cx="1284840" cy="1371600"/>
            </a:xfrm>
            <a:prstGeom prst="parallelogram">
              <a:avLst>
                <a:gd name="adj" fmla="val 25000"/>
              </a:avLst>
            </a:prstGeom>
            <a:solidFill>
              <a:srgbClr val="00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一、实验目的</a:t>
            </a:r>
            <a:r>
              <a:rPr b="1" lang="zh-CN" sz="3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. 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掌握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的提取方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. 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学会使用地衣酚法测定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的含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. </a:t>
            </a:r>
            <a:r>
              <a:rPr b="0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熟悉和掌握离心机的使用方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二、实验原理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由于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的来源和种类很多，因而提取制备方法也各异，一般有苯酚法、去污剂法和盐酸胍法。其中苯酚法又是实验室最常用的。组织匀浆用苯酚处理并离心后，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即溶于上层被苯酚饱和的水相中，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DNA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和蛋白质则留在苯酚层中，向水层加入乙醇后，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即以白色絮状沉淀析出。此法能较好地除去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DNA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和蛋白质，提取的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具有生物活性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酵母细胞富含核酸，且核酸主要是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含量为干菌体的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.67%-10.0%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而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DNA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含量较少，仅为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.03%-0.516%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。为此提取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多以酵母为原料。工业上制备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多选用低成本、适于大规模操作的稀碱法或浓盐法。这两种方法所提取的核酸均为变性的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主要用作制备单核苷酸的原料，其工艺比较简单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11280" y="2357280"/>
            <a:ext cx="7921440" cy="41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稀碱法是用氢氧化钠使酵母细胞壁变性、裂解，然后用酸中和，除去蛋白质和菌体后的上清液用乙醇沉淀</a:t>
            </a: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或调</a:t>
            </a: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pH2.5</a:t>
            </a: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利用等电点沉淀。提取的</a:t>
            </a: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有不同程度的降解。浓盐法是用高浓度盐溶液处理，同时加热，以改变细胞壁的通透性，使核酸从细胞内释放出来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含有核糖、嘌呤碱</a:t>
            </a: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/</a:t>
            </a: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嘧啶碱和磷酸各组分。加硫酸煮可使</a:t>
            </a: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水解，从水解液中可用定糖，加钼酸铵沉淀（或用定磷法）和加银沉淀等方法测出上述组份的存在。（</a:t>
            </a: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嘌呤碱与硝酸银作用产生白色的嘌呤银化合物沉淀。（</a:t>
            </a: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地衣酚显色法：核糖核酸与浓盐酸共热时，即发生降解，形成的核糖继而转变为糠醛，后者与地衣酚（</a:t>
            </a: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</a:t>
            </a: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5-</a:t>
            </a: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二羟基甲苯）反应呈鲜绿色，该反应需用三氯化铁或氯化铜作催化剂。（</a:t>
            </a: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磷酸与钼酸铵试剂作用产生黄色的磷钼酸铵沉淀</a:t>
            </a: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[(NH4)3PO4·12MoO3↓]</a:t>
            </a:r>
            <a:r>
              <a:rPr b="0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二、实验原理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6666"/>
                </a:solidFill>
                <a:latin typeface="宋体"/>
              </a:rPr>
              <a:t>三、仪器、原料和试剂</a:t>
            </a:r>
            <a:r>
              <a:rPr b="1" lang="zh-CN" sz="3600" spc="-1" strike="noStrike">
                <a:solidFill>
                  <a:srgbClr val="006666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2362320"/>
            <a:ext cx="8496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仪器：试管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     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烧杯：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100mL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     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移液管：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0.2mL(×1)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2.0mL(×2)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1mL(×2)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；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     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量筒：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10 mL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50mL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各一个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     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滴管；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     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电磁炉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     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离心机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     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布氏漏斗。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原料：干酵母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低速离心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6762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三、仪器、原料和试剂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3600" y="2334960"/>
            <a:ext cx="849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试剂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.2%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氢氧化钠溶液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%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硫酸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.1mol/L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硝酸银溶液（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5%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硝酸银溶液）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mol/L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浓氨水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酸性乙醇溶液：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0mL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乙醇加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.3mL HCl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6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地衣酚试剂：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0mg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地衣酚，溶于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0ml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浓盐酸中，再加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0mgFeCl</a:t>
            </a:r>
            <a:r>
              <a:rPr b="0" lang="zh-CN" sz="2000" spc="-1" strike="noStrike" baseline="-25000">
                <a:solidFill>
                  <a:srgbClr val="003366"/>
                </a:solidFill>
                <a:latin typeface="楷体_GB2312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·6H</a:t>
            </a:r>
            <a:r>
              <a:rPr b="0" lang="zh-CN" sz="2000" spc="-1" strike="noStrike" baseline="-25000">
                <a:solidFill>
                  <a:srgbClr val="003366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O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或等量的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CuO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7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定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P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试剂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  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a.17%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硫酸：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7ml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浓硫酸（比重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.84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缓缓加入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83ml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水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  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b.2.5%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钼酸铵溶液：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.5g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钼酸铵溶于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0ml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水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  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c.10%Vc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抗坏血酸）溶液：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g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抗坏血酸溶于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0ml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水中。棕色瓶储存。溶液程淡黄色尚可使用。呈深黄色甚至棕色即失效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临用时将上述三种溶液与水按如下比例混合，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a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：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b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：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c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：水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=1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：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：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：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65160" y="1268280"/>
            <a:ext cx="43005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四、实验步骤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75800" y="2236680"/>
            <a:ext cx="8062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酵母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RNA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提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称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8g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干酵母粉悬浮于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40mL 0.2%NaOH 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溶液的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0mL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烧杯中 沸水浴加热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0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分钟，不断搅拌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冷却后，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4000r/min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离心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8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分钟，将上清液慢慢倾入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0mL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酸性乙醇的烧杯中，边倒边搅。而后静置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分钟，待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完全沉淀，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4000r/min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离心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8min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弃去上清，沉淀为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粗制品。 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水解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     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RNA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粗制品转移至三角瓶中，加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mL10%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硫酸，盖上漏斗，沸水浴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</a:t>
            </a:r>
            <a:r>
              <a:rPr b="0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分钟，过滤，弃去滤渣，滤液备用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9-11T06:49:1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