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ECE-301F-49B7-94AE-FCF355CB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0B7-928F-4744-9E34-DAE34D0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DB4-49FD-492C-B92F-F6F0D99A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1F2-985E-45C7-A291-84422C64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20A7-6413-4127-9C0C-5095309A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5BDD-AAD7-4B0E-9B27-B8DD2B6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A4D-065E-45E6-91CC-C7971B36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34B2-C655-4014-BE1E-0E4DF17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F945-8734-4A53-8632-A043BC22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4E1-8136-4BDB-9F0F-5314AAA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975D-5693-46FC-9F6C-34FDBC5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F15-4145-45EE-B0A8-293F481F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553D-9213-4230-8A9C-15507C0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D1A-C685-47C5-9158-234173C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967-1269-4466-A6E1-75E13518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3927-860D-4FE8-B3D3-123D6CB4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98B-B790-4F2E-9F5A-89D48828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CA3-8259-48F1-ACA1-0370278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351-7675-4469-B19D-0F93D64B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2BF-19E0-48CA-9785-5D32DCE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16C-5276-4B36-99CF-5FA805EA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CD9-8760-43F7-B04F-B1A646D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24E-4691-42C5-BEC1-DBFABC6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617-0F44-402A-8C55-9D8D6C4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1A6-1688-45B4-AE92-354C14E1361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E7EE-E5FB-49B3-8645-C948E509E99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枯草杆菌蛋白酶活力的测定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530920" y="4173480"/>
            <a:ext cx="42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76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物化学实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44370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安徽师范大学生科院生化教研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3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标准曲线的绘制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362320"/>
            <a:ext cx="83059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取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支干燥试管，编号，按教材表格顺序加入试剂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混匀器充分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混匀后，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置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恒温水浴反应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min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以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 baseline="30000">
                <a:solidFill>
                  <a:srgbClr val="003366"/>
                </a:solidFill>
                <a:latin typeface="楷体_GB2312"/>
                <a:ea typeface="楷体_GB2312"/>
              </a:rPr>
              <a:t>#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管做参比，分别比色测定各管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680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、绘制标准曲线，根据作图或用回归方程，计算出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吸光度为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时的酪氨酸的量（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μg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即为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62120" y="1905120"/>
          <a:ext cx="8305560" cy="4290840"/>
        </p:xfrm>
        <a:graphic>
          <a:graphicData uri="http://schemas.openxmlformats.org/drawingml/2006/table">
            <a:tbl>
              <a:tblPr/>
              <a:tblGrid>
                <a:gridCol w="2057400"/>
                <a:gridCol w="990360"/>
                <a:gridCol w="990720"/>
                <a:gridCol w="990720"/>
                <a:gridCol w="990360"/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          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项目             管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标准酪氨酸溶液（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蒸馏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Na</a:t>
                      </a:r>
                      <a:r>
                        <a:rPr b="1" lang="zh-CN" sz="2000" spc="-1" strike="noStrike" baseline="-25000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CO</a:t>
                      </a:r>
                      <a:r>
                        <a:rPr b="1" lang="zh-CN" sz="2000" spc="-1" strike="noStrike" baseline="-25000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溶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酚试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处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摇匀置于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30℃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水浴保温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分钟，冷却后比色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吸光度（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680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62120" y="2362320"/>
            <a:ext cx="205740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67080" y="1233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492280"/>
            <a:ext cx="9067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609480"/>
          <a:ext cx="7391520" cy="555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39152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待测酶液的制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82024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称取酶粉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500g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用少量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pH7.5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缓冲液溶解……用缓冲液定容至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0mL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容量瓶中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=1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。摇匀，用四层纱布过滤，滤液根据酶活力再一次用缓冲液稀释至适当浓度，供测试用（至吸光度在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0.40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范围内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=10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685800"/>
            <a:ext cx="685800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取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支试管，分别加入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L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酶液，置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预热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00480" y="1616040"/>
            <a:ext cx="1333440" cy="398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空白管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37360" y="1616040"/>
            <a:ext cx="18399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平行管②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754520" y="-365400"/>
            <a:ext cx="457200" cy="3353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6"/>
                </a:lnTo>
                <a:cubicBezTo>
                  <a:pt x="10800" y="10406"/>
                  <a:pt x="5400" y="11306"/>
                  <a:pt x="0" y="11306"/>
                </a:cubicBezTo>
                <a:cubicBezTo>
                  <a:pt x="5400" y="11306"/>
                  <a:pt x="10800" y="12206"/>
                  <a:pt x="10800" y="131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317680"/>
            <a:ext cx="34290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mL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三氯乙酸 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3063960"/>
            <a:ext cx="327672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mL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三氯乙酸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063960"/>
            <a:ext cx="34290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L 1%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酪蛋白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317680"/>
            <a:ext cx="335304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L 1%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酪蛋白 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0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830480" y="199692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03"/>
                </a:lnTo>
                <a:cubicBezTo>
                  <a:pt x="10800" y="10503"/>
                  <a:pt x="5400" y="11403"/>
                  <a:pt x="0" y="11403"/>
                </a:cubicBezTo>
                <a:cubicBezTo>
                  <a:pt x="5400" y="11403"/>
                  <a:pt x="10800" y="12303"/>
                  <a:pt x="10800" y="132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902040"/>
            <a:ext cx="278928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过   滤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99692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5904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99692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2759040"/>
            <a:ext cx="0" cy="30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760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1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89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蛋白酶活力的测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65520" y="4511520"/>
            <a:ext cx="485460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另取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支试管，分别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取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①②③管滤液</a:t>
            </a:r>
            <a:r>
              <a:rPr b="1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1800" y="39006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79680" y="5137200"/>
            <a:ext cx="5140440" cy="440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各加入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mL Na</a:t>
            </a:r>
            <a:r>
              <a:rPr b="1" lang="zh-CN" sz="20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CO</a:t>
            </a:r>
            <a:r>
              <a:rPr b="1" lang="zh-CN" sz="20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溶液、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L </a:t>
            </a:r>
            <a:r>
              <a:rPr b="1" lang="zh-CN" sz="1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Folin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－酚试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495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5746680"/>
            <a:ext cx="20113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7℃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反应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0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1800" y="5105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6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6324480"/>
            <a:ext cx="10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03600" y="6324480"/>
            <a:ext cx="3295800" cy="440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比色测定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 baseline="-25000">
                <a:solidFill>
                  <a:srgbClr val="003366"/>
                </a:solidFill>
                <a:latin typeface="楷体_GB2312"/>
                <a:ea typeface="楷体_GB2312"/>
              </a:rPr>
              <a:t>680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 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管做参比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90860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51808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609588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28292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1447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酶活力的计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7360" y="2208240"/>
            <a:ext cx="7953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　酶活单位定义：在上述条件下，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min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水解酪蛋白产生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μg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酪氨酸的酶量为一个酶活力单位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3200400"/>
          <a:ext cx="8458200" cy="3476520"/>
        </p:xfrm>
        <a:graphic>
          <a:graphicData uri="http://schemas.openxmlformats.org/drawingml/2006/table">
            <a:tbl>
              <a:tblPr/>
              <a:tblGrid>
                <a:gridCol w="2570040"/>
                <a:gridCol w="2306880"/>
                <a:gridCol w="457200"/>
                <a:gridCol w="182520"/>
                <a:gridCol w="380880"/>
                <a:gridCol w="1208160"/>
                <a:gridCol w="1352520"/>
              </a:tblGrid>
              <a:tr h="368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蛋白酶活力（</a:t>
                      </a: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u/g</a:t>
                      </a: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或</a:t>
                      </a: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u/mL</a:t>
                      </a: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r>
                        <a:rPr b="1" lang="zh-CN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=A×K×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4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×N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5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式中         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A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样品平行试验的平均吸光度；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K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吸光常数；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4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反应试剂的总体积（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mL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）；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0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反应时间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0min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，以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1min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计；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N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楷体_GB2312"/>
                          <a:ea typeface="楷体_GB2312"/>
                        </a:rPr>
                        <a:t>稀释倍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  <a:ea typeface="楷体_GB2312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978560" y="6171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所得结果表示至整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1840" y="1062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五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结果与讨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22480" y="2437920"/>
            <a:ext cx="76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常规酶活测定程序为：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酶液适当稀释，最适条件下进行酶促反应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测定反应量，根据酶活单位定义计算酶活力。上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述过程中，那个阶段的操作误差给实验结果造成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楷体_GB2312"/>
              </a:rPr>
              <a:t>的影响最大？如何防止？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371600"/>
            <a:ext cx="23619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思考题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294560"/>
            <a:ext cx="289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实验目的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7239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蛋白酶浸提、分离、提取技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最适条件下酶促水解反应的操作程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酶活力的测定及活力单位的计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193760"/>
            <a:ext cx="2666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实验原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2514600"/>
            <a:ext cx="7467480" cy="3583800"/>
            <a:chOff x="838080" y="2514600"/>
            <a:chExt cx="7467480" cy="3583800"/>
          </a:xfrm>
        </p:grpSpPr>
        <p:sp>
          <p:nvSpPr>
            <p:cNvPr id="103" name=""/>
            <p:cNvSpPr/>
            <p:nvPr/>
          </p:nvSpPr>
          <p:spPr>
            <a:xfrm>
              <a:off x="6852960" y="5019840"/>
              <a:ext cx="1452600" cy="459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楷体_GB2312"/>
                  <a:ea typeface="楷体_GB2312"/>
                </a:rPr>
                <a:t>比色测定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838080" y="2514600"/>
              <a:ext cx="6477120" cy="3583800"/>
              <a:chOff x="838080" y="2514600"/>
              <a:chExt cx="6477120" cy="3583800"/>
            </a:xfrm>
          </p:grpSpPr>
          <p:sp>
            <p:nvSpPr>
              <p:cNvPr id="105" name=""/>
              <p:cNvSpPr/>
              <p:nvPr/>
            </p:nvSpPr>
            <p:spPr>
              <a:xfrm>
                <a:off x="838080" y="2971800"/>
                <a:ext cx="1371600" cy="520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酪蛋白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92280" y="2514600"/>
                <a:ext cx="1255680" cy="459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蛋白酶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7280" y="2971800"/>
                <a:ext cx="1447920" cy="520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酪氨酸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3480" y="4968720"/>
                <a:ext cx="987480" cy="825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钼蓝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钨蓝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24080" y="3124080"/>
                <a:ext cx="2209680" cy="228600"/>
              </a:xfrm>
              <a:prstGeom prst="rightArrow">
                <a:avLst>
                  <a:gd name="adj1" fmla="val 50000"/>
                  <a:gd name="adj2" fmla="val 241654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080" y="5195880"/>
                <a:ext cx="1371600" cy="520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酪氨酸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61960" y="4800600"/>
                <a:ext cx="2057400" cy="459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Folin-</a:t>
                </a: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酚试剂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5334120"/>
                <a:ext cx="2209680" cy="228600"/>
              </a:xfrm>
              <a:prstGeom prst="rightArrow">
                <a:avLst>
                  <a:gd name="adj1" fmla="val 50000"/>
                  <a:gd name="adj2" fmla="val 241654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5867280" y="533412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00400" y="3505320"/>
                <a:ext cx="1904760" cy="459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pH</a:t>
                </a:r>
                <a:r>
                  <a:rPr b="1" lang="zh-CN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值、温度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95480" y="5638680"/>
                <a:ext cx="990720" cy="459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楷体_GB2312"/>
                    <a:ea typeface="楷体_GB2312"/>
                  </a:rPr>
                  <a:t>OH</a:t>
                </a:r>
                <a:r>
                  <a:rPr b="1" lang="en-US" sz="2400" spc="-1" strike="noStrike" baseline="30000">
                    <a:solidFill>
                      <a:srgbClr val="003366"/>
                    </a:solidFill>
                    <a:latin typeface="楷体_GB2312"/>
                    <a:ea typeface="楷体_GB2312"/>
                  </a:rPr>
                  <a:t>-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1295280"/>
            <a:ext cx="3962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实验试剂和器材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75200"/>
            <a:ext cx="7848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酚试剂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0.55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碳酸钠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 10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三氯乙酸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. 0.5%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酪蛋白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5. 0.02M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PH7.5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磷酸缓冲液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. 50μg/ml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酪氨酸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. 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酶液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器材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7200</a:t>
            </a:r>
            <a:r>
              <a:rPr b="0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型分光光度计；试管；水浴锅；坐标纸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129528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测定酶活的程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362320"/>
            <a:ext cx="70264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将酶液稀释到一定程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最适条件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下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进行酶促水解反应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测定反应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根据酶活单位定义计算酶活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74040"/>
            <a:ext cx="304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【重点掌握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04156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将酶液稀释到一定程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底物浓度一定，反应时间一定内维持初速度，必须调整酶的最适稀释倍数即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吸光度限制在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0.25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0.40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范围内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6280" y="2271600"/>
            <a:ext cx="70261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最适条件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下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进行酶促水解反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最适温度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  —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3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℃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恒温水浴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最适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pH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  —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pH7.5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缓冲溶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底物浓度足够大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  —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%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酪蛋白溶液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反应时间准确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  —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0m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及时灭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                      —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三氯乙酸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2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274040"/>
            <a:ext cx="304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【重点掌握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2413080"/>
            <a:ext cx="8381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测定反应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测定产物的增加量或底物的减少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           —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测定酪氨酸的生成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、根据酶活单位定义计算酶活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酶活单位定义：在上述条件下，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min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水解酪蛋白产生   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μg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酪氨酸的酶量为一个酶活力单位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274040"/>
            <a:ext cx="304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【重点掌握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24271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仿宋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仿宋_GB2312"/>
                <a:ea typeface="楷体_GB2312"/>
              </a:rPr>
              <a:t>用一系列浓度不同的酪氨酸标准液与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Folin-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酚试剂作用，产生兰色深浅不同的溶液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680nm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波长处，作出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酪氨酸浓度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-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吸光度标准曲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用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酶促水解液进行同样操作</a:t>
            </a:r>
            <a:r>
              <a:rPr b="1" lang="zh-CN" sz="2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，比色后，查阅标准曲线，即可求得待测酶活力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03480"/>
            <a:ext cx="2438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操作步骤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11T06:52:0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