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EC82-E14F-411F-90A3-C59C3FD7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44DE-C714-49DF-8F7A-87B74A2B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0489-7ABB-4819-B5FD-C88F7522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85FE-C285-4E01-B34C-FD8ECD133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333A-DD1D-44D8-9872-B8EADB08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9F17-14FE-45E3-ADC0-E4E59981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9670-B061-4914-B671-CC8DA267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CDB9-AB75-4511-91CC-682285FD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BB44-DE81-4E71-9FC2-D4EC9B64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4830-058E-4EFD-9C82-7BFC44ED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9DAD-D0A5-40DF-B4DC-21D18FB7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D19C-7B80-42F5-A6BE-84CB615D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FB2F-F038-4689-95A4-1ECD836D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E60E-080E-4A65-B9DC-4A07F6A3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0B7B-F940-42E0-A416-560CAFF8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994F-B31F-4C37-8E15-6E0BB79F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18CA-127A-4A58-9207-CA0E955C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5F34-9384-422E-AA72-16A59ACB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52E5-5527-42BA-93C6-4F1DDC01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4DE2-D38B-4BD4-9C73-F68D4C30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8814-D51B-493D-802F-6B4464A0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6CE7-B583-4D6B-BA7B-0CE47040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45C8-AD5B-4520-A3B6-20D4EC12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AAFE-CC11-4689-BC71-F411BD3F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8E08-6FF2-4AC6-9BA0-0EA1D16B1979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44F0-F632-4FAA-BBE9-7AABE9FDA297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淀粉酶米氏常数的测定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8530920" y="4173480"/>
            <a:ext cx="4284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476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生物化学实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8720" y="443700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安徽师范大学生科院生化教研室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不同底物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可溶性淀粉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浓度（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0.5%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、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.0%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、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.5%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、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.0%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、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.5%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、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3.0%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）可溶性淀粉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4mL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缓冲液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0.75mL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摇匀后，在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60℃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水浴中平衡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5 min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加入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0.25 mL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稀释好的酶液，立即记时，充分摇匀，准确反应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0 min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立即加入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3.0ml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的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0.2moL/L HCl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终止反应，然后立即取出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.00ml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溶液置于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5.00ml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稀碘液显色，摇匀，并以稀碘液作对照，于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660nm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处测定吸光度（按操作表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操作）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17720" y="1324080"/>
            <a:ext cx="166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2. Km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测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30320" y="231840"/>
            <a:ext cx="1589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5800" y="609480"/>
          <a:ext cx="8229600" cy="5816880"/>
        </p:xfrm>
        <a:graphic>
          <a:graphicData uri="http://schemas.openxmlformats.org/drawingml/2006/table">
            <a:tbl>
              <a:tblPr/>
              <a:tblGrid>
                <a:gridCol w="2602440"/>
                <a:gridCol w="789480"/>
                <a:gridCol w="968400"/>
                <a:gridCol w="965520"/>
                <a:gridCol w="968400"/>
                <a:gridCol w="966600"/>
                <a:gridCol w="96876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                      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瓶号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试剂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4%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可溶性淀粉（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ml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H</a:t>
                      </a:r>
                      <a:r>
                        <a:rPr b="0" lang="en-US" sz="1800" spc="-1" strike="noStrike" baseline="-30000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O(ml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缓冲液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(ml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0.7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0.7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0.7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0.7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0.7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0.7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60℃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放置，预热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5mi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酶液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(ml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充分摇匀，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60℃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放置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10mi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取出，加入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3.0ml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的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0.2moL/L HC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取出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1.0ml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溶液置于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5.00ml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稀碘液，显色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A66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可溶性淀粉量浓度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[s]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1/[s]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v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1/v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685800" y="609480"/>
            <a:ext cx="2590920" cy="6098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808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971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酶的反应速度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V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：以单位时间内吸光度的减少量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d(A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楷体_GB2312"/>
                <a:ea typeface="楷体_GB2312"/>
              </a:rPr>
              <a:t>0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-A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／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dt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来表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6971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6971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以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/</a:t>
            </a:r>
            <a:r>
              <a:rPr b="0" i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v 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对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/[S]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双倒数法作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6971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6971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计算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Km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值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9960" y="1370160"/>
            <a:ext cx="215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数据处理与作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Arial"/>
              </a:rPr>
              <a:t>五、实验注意事项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取液量一定要准确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反应时间一定要精确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加酶前后一定要将试剂混匀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分光光度计的正确使用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取液器的使用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Arial"/>
              </a:rPr>
              <a:t>六、思考题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7720" y="2971440"/>
            <a:ext cx="80773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(1) 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试说明米氏常数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Km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的物理意义和生物学意义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(2)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为什么说米氏常数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Km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是酶的一个特征常数而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Vm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则不是？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一、 实验目的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了解并掌握米氏常数的意义和测定方法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二、 实验原理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257800" y="2438280"/>
            <a:ext cx="3618000" cy="26654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6240600" y="525708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酶促反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v-[S]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曲线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124080" y="2362320"/>
                <a:ext cx="13716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1170000" y="25138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推导出米氏方程为：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4250160"/>
            <a:ext cx="44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米氏常数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Km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是酶的一个基本特征常数，它包含着酶与底物结合和解离的性质。特别是同一种酶能够作用于几种不同底物时，米氏常数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Km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往往可以反映出酶与各种底物的亲和力的强弱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测定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Km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和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Vm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可通过作图法求得。 最常用的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Lineweaver-Burk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双倒数作图法。这个方法是将米氏方程转化为倒数形式，即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590920" y="6019920"/>
                <a:ext cx="19810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429000" cy="3159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191120" y="3284280"/>
            <a:ext cx="458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以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/v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对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/[S]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作图，可得一条直线，所得直线的截距是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/Vm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斜率为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Km/ Vm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。通过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Lineweaver-Burk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作图法作图后可方便的求出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Km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值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试管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移液抢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秒表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吸耳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恒温水浴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7200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型分光光度计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三 仪器和试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三 仪器和试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试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（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）酶液：精确称取酶制剂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0.1g(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以大约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000 U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／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g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计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)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先用少量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40℃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蒸馏水溶解、浸提。将上层液小心倾入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500ml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容量瓶内，沉淀再加水捣研。如此重复，最后全部移入容量瓶中，定容后摇匀，用四层纱布过滤，滤液供测试定用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（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）原碘液  称取碘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1 g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碘化钾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(KI)22 g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先用少量蒸馏水使碘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-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碘化钾完全溶解，定容至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500 mL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贮于棕色瓶内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（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3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）稀碘液  取原碘液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mL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加碘化钾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0 g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用蒸馏水定容至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500 mL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．贮于棕色瓶内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（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4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）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4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％可溶性淀粉  精确称取可溶性淀粉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4.000g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（精确至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0.001g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），用少量蒸馏水调匀。边搅拌边加入煮水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70mL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加热煮沸至透明，冷却后定容至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00 mL, 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此溶液现配现用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09480" y="2362320"/>
            <a:ext cx="8305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0.02mLpH6.0</a:t>
            </a:r>
            <a:r>
              <a:rPr b="0" lang="zh-CN" sz="24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磷酸氢二钠—柠檬酸缓冲液  称取磷酸氢二钠</a:t>
            </a:r>
            <a:r>
              <a:rPr b="0" lang="zh-CN" sz="24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(Na</a:t>
            </a:r>
            <a:r>
              <a:rPr b="0" lang="zh-CN" sz="2400" spc="-1" strike="noStrike" baseline="-30000">
                <a:solidFill>
                  <a:srgbClr val="0066cc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HPO</a:t>
            </a:r>
            <a:r>
              <a:rPr b="0" lang="zh-CN" sz="2400" spc="-1" strike="noStrike" baseline="-30000">
                <a:solidFill>
                  <a:srgbClr val="0066cc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.12H</a:t>
            </a:r>
            <a:r>
              <a:rPr b="0" lang="zh-CN" sz="2400" spc="-1" strike="noStrike" baseline="-30000">
                <a:solidFill>
                  <a:srgbClr val="0066cc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O)45</a:t>
            </a:r>
            <a:r>
              <a:rPr b="0" lang="zh-CN" sz="24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．</a:t>
            </a:r>
            <a:r>
              <a:rPr b="0" lang="zh-CN" sz="24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23g</a:t>
            </a:r>
            <a:r>
              <a:rPr b="0" lang="zh-CN" sz="24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和柠檬酸</a:t>
            </a:r>
            <a:r>
              <a:rPr b="0" lang="zh-CN" sz="24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(C</a:t>
            </a:r>
            <a:r>
              <a:rPr b="0" lang="zh-CN" sz="2400" spc="-1" strike="noStrike" baseline="-30000">
                <a:solidFill>
                  <a:srgbClr val="0066cc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H</a:t>
            </a:r>
            <a:r>
              <a:rPr b="0" lang="zh-CN" sz="2400" spc="-1" strike="noStrike" baseline="-30000">
                <a:solidFill>
                  <a:srgbClr val="0066cc"/>
                </a:solidFill>
                <a:latin typeface="楷体_GB2312"/>
                <a:ea typeface="楷体_GB2312"/>
              </a:rPr>
              <a:t>8</a:t>
            </a:r>
            <a:r>
              <a:rPr b="0" lang="zh-CN" sz="24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O</a:t>
            </a:r>
            <a:r>
              <a:rPr b="0" lang="zh-CN" sz="2400" spc="-1" strike="noStrike" baseline="-30000">
                <a:solidFill>
                  <a:srgbClr val="0066cc"/>
                </a:solidFill>
                <a:latin typeface="楷体_GB2312"/>
                <a:ea typeface="楷体_GB2312"/>
              </a:rPr>
              <a:t>7</a:t>
            </a:r>
            <a:r>
              <a:rPr b="0" lang="zh-CN" sz="24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·H</a:t>
            </a:r>
            <a:r>
              <a:rPr b="0" lang="zh-CN" sz="2400" spc="-1" strike="noStrike" baseline="-30000">
                <a:solidFill>
                  <a:srgbClr val="0066cc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O)8.07g</a:t>
            </a:r>
            <a:r>
              <a:rPr b="0" lang="zh-CN" sz="24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，用蒸馏水溶解，用酸度计或</a:t>
            </a:r>
            <a:r>
              <a:rPr b="0" lang="zh-CN" sz="24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pH</a:t>
            </a:r>
            <a:r>
              <a:rPr b="0" lang="zh-CN" sz="24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试纸校正</a:t>
            </a:r>
            <a:r>
              <a:rPr b="0" lang="zh-CN" sz="24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pH</a:t>
            </a:r>
            <a:r>
              <a:rPr b="0" lang="zh-CN" sz="24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，定容至</a:t>
            </a:r>
            <a:r>
              <a:rPr b="0" lang="zh-CN" sz="24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1000 mI</a:t>
            </a:r>
            <a:r>
              <a:rPr b="0" lang="zh-CN" sz="24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0.2moL/L HCl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取</a:t>
            </a:r>
            <a:r>
              <a:rPr b="0" lang="zh-CN" sz="24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36%</a:t>
            </a:r>
            <a:r>
              <a:rPr b="0" lang="zh-CN" sz="24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盐酸（饱和浓盐酸）</a:t>
            </a:r>
            <a:r>
              <a:rPr b="0" lang="zh-CN" sz="24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0.86ml</a:t>
            </a:r>
            <a:r>
              <a:rPr b="0" lang="zh-CN" sz="24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加入已加有少量蒸馏水的</a:t>
            </a:r>
            <a:r>
              <a:rPr b="0" lang="zh-CN" sz="24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50ml</a:t>
            </a:r>
            <a:r>
              <a:rPr b="0" lang="zh-CN" sz="24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容量瓶中</a:t>
            </a:r>
            <a:r>
              <a:rPr b="0" lang="zh-CN" sz="24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加水稀释至刻度</a:t>
            </a:r>
            <a:r>
              <a:rPr b="0" lang="zh-CN" sz="24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摇匀即可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1840" y="9864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四、实验操作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淀粉浓度梯度吸光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不同底物浓度（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0.5%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.0%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.5%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.0%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.5%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3.0%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）的可溶性淀粉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4ml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加入缓冲液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0.75ml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和蒸馏水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0.25ml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充分摇匀，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60℃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放置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0min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立即加入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3.0ml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的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0.2moL/L HCl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终止反应，然后立即取出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.00ml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溶液置于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5.00ml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稀碘液摇匀，显色，并以稀碘液作对照，于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660nm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处测定吸光度（按操作表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操作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30320" y="1327320"/>
            <a:ext cx="1479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371600"/>
          <a:ext cx="8229600" cy="4514760"/>
        </p:xfrm>
        <a:graphic>
          <a:graphicData uri="http://schemas.openxmlformats.org/drawingml/2006/table">
            <a:tbl>
              <a:tblPr/>
              <a:tblGrid>
                <a:gridCol w="2692440"/>
                <a:gridCol w="924120"/>
                <a:gridCol w="922320"/>
                <a:gridCol w="922320"/>
                <a:gridCol w="922320"/>
                <a:gridCol w="923760"/>
                <a:gridCol w="92232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            </a:t>
                      </a:r>
                      <a:r>
                        <a:rPr b="0" lang="zh-CN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瓶号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试剂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6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4%</a:t>
                      </a:r>
                      <a:r>
                        <a:rPr b="0" lang="zh-CN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可溶性淀粉（</a:t>
                      </a:r>
                      <a:r>
                        <a:rPr b="0" lang="zh-CN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ml</a:t>
                      </a:r>
                      <a:r>
                        <a:rPr b="0" lang="zh-CN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H</a:t>
                      </a:r>
                      <a:r>
                        <a:rPr b="0" lang="en-US" sz="2000" spc="-1" strike="noStrike" baseline="-30000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O(ml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3.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缓冲液</a:t>
                      </a:r>
                      <a:r>
                        <a:rPr b="0" lang="zh-CN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(ml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0.7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0.7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0.7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0.7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0.7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0.7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蒸馏水</a:t>
                      </a:r>
                      <a:r>
                        <a:rPr b="0" lang="zh-CN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(ml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充分摇匀，</a:t>
                      </a:r>
                      <a:r>
                        <a:rPr b="0" lang="zh-CN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60℃</a:t>
                      </a:r>
                      <a:r>
                        <a:rPr b="0" lang="zh-CN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放置</a:t>
                      </a:r>
                      <a:r>
                        <a:rPr b="0" lang="zh-CN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10mi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000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加入</a:t>
                      </a:r>
                      <a:r>
                        <a:rPr b="0" lang="zh-CN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3.0ml</a:t>
                      </a:r>
                      <a:r>
                        <a:rPr b="0" lang="zh-CN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的</a:t>
                      </a:r>
                      <a:r>
                        <a:rPr b="0" lang="zh-CN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0.2moL/L HCl</a:t>
                      </a:r>
                      <a:r>
                        <a:rPr b="0" lang="zh-CN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，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摇匀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取出</a:t>
                      </a:r>
                      <a:r>
                        <a:rPr b="0" lang="zh-CN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1.0ml</a:t>
                      </a:r>
                      <a:r>
                        <a:rPr b="0" lang="zh-CN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溶液置于</a:t>
                      </a:r>
                      <a:r>
                        <a:rPr b="0" lang="zh-CN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5.00ml</a:t>
                      </a:r>
                      <a:r>
                        <a:rPr b="0" lang="zh-CN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稀碘液显色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楷体_GB2312"/>
                        </a:rPr>
                        <a:t>A66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762120" y="1371600"/>
            <a:ext cx="2666880" cy="6858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3-09-11T06:49:0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