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4F3E-79CE-403B-B891-CC4201B85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D503-D14E-4A0C-B1B0-A0FEFC11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B584-947B-45FC-93AB-52EDAC79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D714-6915-4AA9-AC38-D53914EF2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F112-04DA-40EF-8524-8AB269E89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71E1-BE9C-4EE3-8248-80B86011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CB4E-7A72-4DC9-8E5B-78B734AC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3AAE-EB53-4D3A-8E6F-2EBCD9AC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5F1D-423D-4343-952A-4C50663F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4EBA-E34A-44F0-9352-30154D3D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2276-F332-4AC1-B342-666A615D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EE2B-F551-464D-8952-CC911719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7C2C-8070-43FE-BFE4-F170CC9B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DF89-81BF-48C9-BD02-9EBF3E74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CF27-AF8A-488C-ACC2-B29CE8CB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FF50-60E4-424D-97E7-247519E5F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4A3A-E932-4775-88D0-6839E29C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6CFF-F0BF-44F1-8019-68ECEB8B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0755-4778-455B-9BE1-0034D874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EC68-7206-4441-938F-F2EDEC0F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079C-7A9D-4A9E-A020-C0E79BB0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7B57-4746-4A87-8F7B-895C5873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0A49-C2C8-4B08-9BA8-C2B742AF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39AE-4C18-4B8D-9003-B794290F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0CFD-DB82-4FE9-A7BC-4F3ED7789786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53CD-C94E-4B24-AFC2-4FC9B8D689D5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9900cc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22270;&#29255;/S2&#65293;9&#28903;&#29942;&#30340;&#23433;&#35013;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file:///&#22270;&#29255;/S2&#65293;11&#25552;&#21462;&#31649;&#30340;&#23433;&#35013;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hyperlink" Target="file:///&#22270;&#29255;/S2&#65293;10&#25552;&#21462;&#31649;&#30340;&#23433;&#35013;.jpg" TargetMode="External"/><Relationship Id="rId4" Type="http://schemas.openxmlformats.org/officeDocument/2006/relationships/image" Target="../media/image9.jpeg"/><Relationship Id="rId5" Type="http://schemas.openxmlformats.org/officeDocument/2006/relationships/hyperlink" Target="file:///&#22270;&#29255;/S2&#35774;&#22791;.jpg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2270;&#29255;/S2&#28888;&#31665;&#38754;&#26495;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&#22270;&#29255;/S2&#20202;&#22120;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22270;&#29255;/S2&#32034;&#27663;&#25552;&#21462;&#20202;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&#22270;&#29255;/S2&#20202;&#22120;2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87631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粗脂肪的提取和定量测定——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                                     索氏提取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03280" y="47628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生物化学实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443700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安徽师范大学生科院生化教研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四、实验试剂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1760" y="2285640"/>
            <a:ext cx="7692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称取样品的重量根据材料中脂肪的含量而定（参考表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通常脂肪含量在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%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的，称取样品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g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脂肪含量为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，则称取样品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g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3276720"/>
            <a:ext cx="6019920" cy="4572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表</a:t>
            </a:r>
            <a:r>
              <a:rPr b="1" lang="zh-CN" sz="20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1-1</a:t>
            </a:r>
            <a:r>
              <a:rPr b="1" lang="zh-CN" sz="20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几种干的植物种子和种仁中油脂的百分含量</a:t>
            </a:r>
            <a:r>
              <a:rPr b="1" lang="zh-CN" sz="20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600200" y="3809880"/>
          <a:ext cx="6477120" cy="2711520"/>
        </p:xfrm>
        <a:graphic>
          <a:graphicData uri="http://schemas.openxmlformats.org/drawingml/2006/table">
            <a:tbl>
              <a:tblPr/>
              <a:tblGrid>
                <a:gridCol w="1944720"/>
                <a:gridCol w="1636920"/>
                <a:gridCol w="1371600"/>
                <a:gridCol w="1523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 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样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含油量（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）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样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含油量（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）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向日葵种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向日葵种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蓖麻种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蓖麻种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芝麻种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油菜种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花生种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.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.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.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.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大豆种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油桐种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玉米谷粒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小麦谷粒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稻子谷粒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豌豆种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.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样品在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℃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℃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热鼓风干燥箱内烘去水分，一般烘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h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烘干时要避免过热。样品颗粒不宜太大，一般要在研钵中研碎样品。样品若是液体，应将一定体积的样品滴在滤纸上，在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℃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℃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热鼓风干燥箱内烘干后，再进行实验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4191120"/>
            <a:ext cx="4953240" cy="20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本次实验试剂和样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芝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石油醚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P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沸程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℃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楷体_GB2312"/>
              </a:rPr>
              <a:t>五、实验操作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839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准备工作：将恒温水浴锅的水温事先加热（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℃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务必保证提取管和烧瓶内干燥、洁净；若否，将其洗净并置于干燥箱内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℃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烘干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折滤纸斗：取一张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Ø11c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滤纸，折成筒状，再将其一端折起来封死，便做成了滤纸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称样：先将芝麻在碾钵中用碾锤彻底捣碎作为实验样品。参照实验设备和器材①，将滤纸斗在电子天平上称重（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然后用药勺取样品装入滤纸斗中，称重（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使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1-m0=15g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把滤纸斗的开口处折起来封死；竖捆一道，防止样品泄出滤纸斗。调整滤纸斗的高度，使其放在抽提管中时略低于虹吸管的上弯头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烧瓶洗净，烘干（本实验用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℃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烘干过夜或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℃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烘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），称重（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量入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ml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水乙醚，连接提取器各部分，接口处不能漏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3945600"/>
            <a:ext cx="8153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索氏提取仪按照下图所示，从下至上安装。首先安装好烧瓶，并调整其高度，使其刚好能浸入水浴锅中的水中。将装置从水浴锅的水中取出，继续安装提取管。用乳胶管将冷凝管与自来水管相连，将冷凝管安装到提取管上，检查一下，确保所有接口均对接完好（不漏气，不打滑）。轻轻打开自来水（冷凝用），将索氏提取仪整个装置放入恒温水浴锅中加热提取（水温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℃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右）。提取时间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h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约虹吸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以上，记录每次虹吸所需的时间和虹吸次数。附注：若要将样品的粗脂提取完全，提取时间至少为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h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。由于实验时间的限制，我们的提取率只能达到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-8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左右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1143000"/>
            <a:ext cx="2362320" cy="6858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楷体_GB2312"/>
              </a:rPr>
              <a:t>安装仪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左：  烧瓶的安装（注意高度） </a:t>
            </a:r>
            <a:br>
              <a:rPr sz="3200"/>
            </a:b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右： 提取管的安装 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2419200"/>
            <a:ext cx="4419720" cy="3591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2286000"/>
            <a:ext cx="3546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76600" y="1257480"/>
            <a:ext cx="77716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左：冷凝管的安装 </a:t>
            </a:r>
            <a:br>
              <a:rPr sz="3200"/>
            </a:b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  右：水浴加热中的索氏提取仪 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94920" y="2895480"/>
            <a:ext cx="3124440" cy="2286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760640" y="3123720"/>
            <a:ext cx="3011400" cy="2057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2286000"/>
            <a:ext cx="3962520" cy="3422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48320" y="2320920"/>
            <a:ext cx="419076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30080" y="2847960"/>
            <a:ext cx="8261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70℃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浴加热烧瓶 → 乙醚气化 → 由通气管上升进入冷凝管 →  凝成液体滴入提取管，浸提样品中的脂类物质 →  待提取管内乙醚液面达到虹吸管口的高度，溶有粗脂肪的乙醚经→虹吸管流入提取瓶 →  流入提取瓶内的乙醚继续被加热气化 → 上升 →  冷凝→ 滴入提取管内 →  如此循环往复   → 直到抽提完全为止，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h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更换装置，加热（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℃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回收乙醚（约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’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（严禁用明火加热，附近也不得有明火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停止加热，再停冷凝水，拆卸仪器（从上至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滤纸擦干提取瓶外的水分（最好用电吹风吹），称重（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1143000"/>
            <a:ext cx="2362320" cy="6858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楷体_GB2312"/>
              </a:rPr>
              <a:t>实验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3-m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算：   油量（％）＝      ———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×100 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1-m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洁   从提取管中取出滤纸斗，清洗提取管，整理好桌面上的仪器和试剂，并注意清洁自己的操作台，请老师验收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                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六、分析与讨论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楷体_GB2312"/>
              </a:rPr>
              <a:t>一、实验目的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掌握用索氏提取法测定粗脂肪含量的原理及操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熟悉重量分析的基本步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楷体_GB2312"/>
              </a:rPr>
              <a:t>二、实验原理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肪是丙三醇（甘油）和脂肪酸结合成的脂类化合物，能溶于脂溶性有机溶剂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实验利用脂肪能溶于脂溶性溶剂这一特性，用脂溶性溶剂将脂肪提取出来，借蒸发除去溶剂后称量。整个提取过程均在索氏提取器中进行，通常使用的脂溶性溶剂为乙醚，或沸点为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℃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℃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石油醚。用此法提取的脂溶性物质除脂肪外，还有游离脂肪酸、磷酸、固醇、芳香油及某些色素等，故称为“粗脂肪”。同时，样品中结合状态的脂类（主要是脂蛋白）不能直接提取出来，所以该法又称为游离脂类定量测定法。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124640" y="3029400"/>
            <a:ext cx="798480" cy="29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电热鼓风干燥箱 </a:t>
            </a:r>
            <a:endParaRPr b="1" lang="en-US" sz="28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3679560" cy="4497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2286000"/>
            <a:ext cx="2376720" cy="4495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2120" y="838080"/>
            <a:ext cx="350496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楷体_GB2312"/>
              </a:rPr>
              <a:t>三、实验仪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7840" y="2757600"/>
            <a:ext cx="164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101C-3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80880" y="23619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操作指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插上电源插头，按下绿按钮（电源开关）和黄按钮（鼓风开关），将“设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量”按钮置于设定挡，调节“温度设定”旋钮，使显示器中的数字为所需的温度，再将“设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量”按钮置于测量挡，此时显示器中的数字表示烘箱内的实际温度。将加热旋钮（一共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）打到适当的挡位，烘箱开始加热。此时绿灯亮，当温度达到所设定值时，红灯亮，烘箱停止加热。以后烘箱会一直通过不断的加热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停止过程来保持恒温，红绿灯也会相应地交替闪亮。请注意，本实验由于设定温度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故在取出被烘干物品时，请戴上手套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索氏提取仪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37720" y="2361960"/>
            <a:ext cx="3770280" cy="37242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22108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冷凝管、抽提管和平底烧瓶三个部件组成，通过标准磨口相对接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2362320"/>
            <a:ext cx="4084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167280" y="42840"/>
            <a:ext cx="4485600" cy="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图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2-9  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索氏提取仪示意图 </a:t>
            </a:r>
            <a:endParaRPr b="1" lang="en-US" sz="28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6400" y="838080"/>
            <a:ext cx="30607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搭建装置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用铁架台、２只十字夹、２只龙爪、２根乳胶管和１套索氏提取仪来搭建装置。注意按照由下而上的顺序来搭建，参见图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-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图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-1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固定点分别是平底烧瓶的颈部和冷凝管的颈部，索氏提取仪的高度以平底烧瓶的瓶颈略高于恒温水浴锅的液面为宜。注意：用龙爪夹玻璃仪器时，要先用手找好感觉，不能太紧（否则会夹破）也不能太松（否则会打滑而导致索氏提取仪的标准磨口接口漏气）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其它器材： 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37720" y="2361960"/>
            <a:ext cx="3770280" cy="37242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锈钢镊子、药勺、滤纸、铁架台、十字夹、龙爪、手套、乳胶管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2371680"/>
            <a:ext cx="388620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3-09-11T06:48:30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